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7AD7-13D7-4385-AB57-5D13A61AE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48C9-D390-434F-B431-3457CB8E7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4A3C-57F9-4BE0-8F89-B2792FAB0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8B42-13CF-4215-90C8-C827F8517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66A4-D9C9-4695-BF33-55F96086A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994A-C9A1-4ECB-AA2A-4E861F809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BF44-48F3-4644-AB85-D4771ED04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BD87-E7B3-4721-A1E2-1E5C54E95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9362-9E52-4162-995C-6059BE183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35BC-69D0-4133-B7DD-FEC539B67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AFDB-2355-40AD-8482-4F1F459A2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95BF-05C4-413E-A27E-516C74735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0089-D4A0-4D83-AFF7-AF4DFC40E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45A2-4A2A-4E90-BE34-CF37AE94E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64B8-15C0-4920-A57A-FFE725EB8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A95F-84F0-44A8-81A6-80FD2344F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84BC-AF26-430C-8EDA-C3903529E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4196-507F-45FB-B552-AA45C398E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E4DA-DD39-4D61-964D-ADFDB72F2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23E7-F36D-426F-9AA6-CDCFBD6BC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9AC6-3F22-4AC7-95AE-62109A4C9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9717-AB03-4ADB-8E6D-C1F7475A1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BD72-1E08-47BE-AA9E-83CBD5EA9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BF60-E0E6-4226-995F-E388B4DF0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280" y="372996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2560" y="11430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280" y="37299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2560" y="37299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5080" y="11430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7880" y="11430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280" y="37299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5080" y="37299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7880" y="37299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2560" y="11430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1400" y="-3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560" y="11430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280" y="37299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2560" y="11430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2560" y="37299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2560" y="11430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280" y="372996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280" y="372996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2560" y="11430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280" y="37299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2560" y="37299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15080" y="11430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7880" y="11430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280" y="37299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15080" y="37299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7880" y="37299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11430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1400" y="-3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560" y="11430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37299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560" y="11430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2560" y="37299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2560" y="11430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372996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5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228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181480" y="6578640"/>
            <a:ext cx="1981440" cy="27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65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60240" y="6578640"/>
            <a:ext cx="4559400" cy="279360"/>
          </a:xfrm>
          <a:prstGeom prst="rect">
            <a:avLst/>
          </a:prstGeom>
          <a:solidFill>
            <a:srgbClr val="316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78640"/>
            <a:ext cx="939960" cy="279360"/>
          </a:xfrm>
          <a:prstGeom prst="rect">
            <a:avLst/>
          </a:prstGeom>
          <a:solidFill>
            <a:srgbClr val="0c35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1002960" y="6603840"/>
            <a:ext cx="49100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Copyright © 2006 Business Objects S.A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62000" y="6591240"/>
            <a:ext cx="96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81D3D43-16C1-4B02-A763-C2609DA76B2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7086600" y="6302520"/>
            <a:ext cx="197496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6320" y="121896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095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59280" y="4248000"/>
            <a:ext cx="2971800" cy="1917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mailto:adam.gentry@att.com?subject=Business%20Objects%20Insight%202006%20Follow%20Up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6320" y="121896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5095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ing Management Tools to Aid Large-Scale Deploy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36320" y="259092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m Gentry, AT&amp;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&amp;T Administration Por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/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0320" y="603360"/>
            <a:ext cx="41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b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3582" r="1822" b="23546"/>
          <a:stretch/>
        </p:blipFill>
        <p:spPr>
          <a:xfrm>
            <a:off x="0" y="1125360"/>
            <a:ext cx="8748720" cy="4953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796000" y="1989000"/>
            <a:ext cx="3348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custom web applications for administration, interfacing with the BOE Application or checking server-side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the CMC or InfoView into the content area with SSO capability so you do not have to leave the application to check someth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n Event Log view on a per-server basis if the Operations team prevents the Application team from server log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1628640"/>
            <a:ext cx="863640" cy="144720"/>
          </a:xfrm>
          <a:prstGeom prst="ellipse">
            <a:avLst/>
          </a:prstGeom>
          <a:noFill/>
          <a:ln w="15840">
            <a:solidFill>
              <a:srgbClr val="e30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4009" r="1903" b="10225"/>
          <a:stretch/>
        </p:blipFill>
        <p:spPr>
          <a:xfrm>
            <a:off x="0" y="1052640"/>
            <a:ext cx="6877080" cy="5502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87280" y="1484280"/>
            <a:ext cx="432000" cy="216000"/>
          </a:xfrm>
          <a:prstGeom prst="ellipse">
            <a:avLst/>
          </a:prstGeom>
          <a:noFill/>
          <a:ln w="15840">
            <a:solidFill>
              <a:srgbClr val="e30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0" t="3795" r="1778" b="8679"/>
          <a:stretch/>
        </p:blipFill>
        <p:spPr>
          <a:xfrm>
            <a:off x="0" y="1052640"/>
            <a:ext cx="6877080" cy="55022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&amp;T Administration Por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/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0320" y="603360"/>
            <a:ext cx="41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1773360"/>
            <a:ext cx="216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6000" y="1989000"/>
            <a:ext cx="33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of both Utilities and Web Applications settings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0" y="2852640"/>
            <a:ext cx="3348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Enterprise environment information for the applications to logon wi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 information for the applications to store their log files and processing information 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other environment specific setting per Utility and Web Application can be se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&amp;T Administration Por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/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0320" y="603360"/>
            <a:ext cx="65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e Structure :: Dynamic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10147" r="2408" b="2350"/>
          <a:stretch/>
        </p:blipFill>
        <p:spPr>
          <a:xfrm>
            <a:off x="108000" y="981000"/>
            <a:ext cx="5759280" cy="5473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796000" y="1268280"/>
            <a:ext cx="33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marL="116640" indent="-1166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&amp;T Administration Portal’s directory structure is designed to mimic the capabilities of the portal area itsel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 menus will show when new directories right below the Admin application are crea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navigational links will be present when sub-directories under the header menus are crea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6640" indent="-1166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will be displayed when an application is created in a sub-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-96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op in th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-96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ate Application in I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-96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 using th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&amp;T Administration Por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/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2994" r="1694" b="12278"/>
          <a:stretch/>
        </p:blipFill>
        <p:spPr>
          <a:xfrm>
            <a:off x="0" y="1052640"/>
            <a:ext cx="6877080" cy="5502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0320" y="603360"/>
            <a:ext cx="65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urity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2276640"/>
            <a:ext cx="284328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 navigational drill down instead of the standard breadcrumb used in the CM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for setting AT&amp;T custom rights on an object.  Much quicker than going into Advanced and Grant/D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2843280" y="3860640"/>
            <a:ext cx="3141720" cy="22147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62" name=""/>
          <p:cNvSpPr/>
          <p:nvPr/>
        </p:nvSpPr>
        <p:spPr>
          <a:xfrm flipH="1">
            <a:off x="4427280" y="2205000"/>
            <a:ext cx="8650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4581360"/>
            <a:ext cx="2843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add new roles to the selected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47525" t="3397" r="1814" b="19414"/>
          <a:stretch/>
        </p:blipFill>
        <p:spPr>
          <a:xfrm>
            <a:off x="3983040" y="1042920"/>
            <a:ext cx="4260960" cy="5194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&amp;T Administration Por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/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0320" y="603360"/>
            <a:ext cx="65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urity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0" t="3411" r="51386" b="18162"/>
          <a:stretch/>
        </p:blipFill>
        <p:spPr>
          <a:xfrm>
            <a:off x="-19080" y="1042920"/>
            <a:ext cx="4071960" cy="5257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300720" y="3141720"/>
            <a:ext cx="28432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see the roles in a hierarchy for ease of sub-group assig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s each of the users belonging to a selected group, their last logon time and if their account is disabl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add a user manually to a specified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Custom End-User Applic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Provides the ability to have end-users perform sub-administration tasks to alleviate some administration work.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Deployment scalability by using the BOE security to implement to as little or as many users desired.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Single Entry point for users to find their data and perform various tasks.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the same look and feel as Info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SSO so a user would not need to logon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Completely maintainable through the Administration Portal.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Custom End-User Applic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/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3411" r="0" b="53014"/>
          <a:stretch/>
        </p:blipFill>
        <p:spPr>
          <a:xfrm>
            <a:off x="179280" y="1125360"/>
            <a:ext cx="8856720" cy="40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ware Change Manag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/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76312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3580"/>
                </a:solidFill>
                <a:latin typeface="Arial"/>
              </a:rPr>
              <a:t>AT&amp;T Custom built application for the migration, tracking, and versioning of Crystal Reports between Development, QC, and Production.</a:t>
            </a:r>
            <a:endParaRPr b="1" lang="en-US" sz="20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3580"/>
                </a:solidFill>
                <a:latin typeface="Arial"/>
              </a:rPr>
              <a:t>Roles assigned to the Users</a:t>
            </a:r>
            <a:endParaRPr b="1" lang="en-US" sz="2000" spc="-1" strike="noStrike">
              <a:solidFill>
                <a:srgbClr val="0c358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: New Reports, Check-In, Check-Out, Transport to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r: Approving / Denying Reports, Documenting 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/Change Manager:  Approving migrations to Production when all necessary items have been accounte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tor: Full control of the tool, adding users to abov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3580"/>
                </a:solidFill>
                <a:latin typeface="Arial"/>
              </a:rPr>
              <a:t>Enforces AT&amp;T standards such as exact placement of logos, headers, and footers.</a:t>
            </a:r>
            <a:endParaRPr b="1" lang="en-US" sz="20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3580"/>
                </a:solidFill>
                <a:latin typeface="Arial"/>
              </a:rPr>
              <a:t>Historical versioning to go back to previous versions should a bug be introduced. Used as information on how many times the report has been checked-in, migrated to QC, and migrated to Production.</a:t>
            </a:r>
            <a:endParaRPr b="1" lang="en-US" sz="20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3580"/>
                </a:solidFill>
                <a:latin typeface="Arial"/>
              </a:rPr>
              <a:t>Results in a clean easily maintainable system.</a:t>
            </a:r>
            <a:endParaRPr b="1" lang="en-US" sz="2000" spc="-1" strike="noStrike">
              <a:solidFill>
                <a:srgbClr val="0c358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ware Change Manag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/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1373" t="7359" r="3558" b="12730"/>
          <a:stretch/>
        </p:blipFill>
        <p:spPr>
          <a:xfrm>
            <a:off x="179280" y="1268280"/>
            <a:ext cx="7775640" cy="4730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>
            <a:off x="1042920" y="1197000"/>
            <a:ext cx="73080" cy="1295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7640" y="9079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2160" y="299736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00720" y="349560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ct naming standards checked before sub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141720"/>
            <a:ext cx="17287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3789360"/>
            <a:ext cx="5778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3500280"/>
            <a:ext cx="1511280" cy="289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56000" y="3789360"/>
            <a:ext cx="1295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500720" y="3789360"/>
            <a:ext cx="1150920" cy="287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16360" y="4941720"/>
            <a:ext cx="1513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72360" y="47480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folder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732" t="3065" r="3371" b="46874"/>
          <a:stretch/>
        </p:blipFill>
        <p:spPr>
          <a:xfrm>
            <a:off x="-36360" y="765000"/>
            <a:ext cx="9001080" cy="39132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ware Change Manag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/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rcRect l="0" t="3348" r="56911" b="73698"/>
          <a:stretch/>
        </p:blipFill>
        <p:spPr>
          <a:xfrm>
            <a:off x="108000" y="4005360"/>
            <a:ext cx="5329080" cy="2471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>
            <a:off x="4500360" y="4149720"/>
            <a:ext cx="1655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4000" y="602136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s report into My Folders :: Favor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3286080"/>
            <a:ext cx="2844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heck-out any report in the system so a search was implemented for spe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for check-out of 1 to n repo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1640" y="3933720"/>
            <a:ext cx="720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eakout Information (Hidden Slid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Building Management Tools to Aid Large-Scale Deployments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deploying a large-scale Business Objects Enterprise environment and need to manage this with a small team? Learn how AT&amp;T manages the intricacies of administration and user requirements through a centralized custom management portal. Learn best practices for administering a large-scale Crystal Enterprise/Business Objects Enterprise deployment with custom .NET applications to maintain users, objects, external applications, and utilities. Hear how AT&amp;T has developed additional web applications to aid in managing a large-scale Business Objects Enterprise application, and learn the business benefits of its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_Code (please leave for Business Objects u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ware Change Manag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/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939" t="3799" r="2843" b="54452"/>
          <a:stretch/>
        </p:blipFill>
        <p:spPr>
          <a:xfrm>
            <a:off x="108000" y="836640"/>
            <a:ext cx="8280360" cy="3557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960" t="8996" r="5354" b="25917"/>
          <a:stretch/>
        </p:blipFill>
        <p:spPr>
          <a:xfrm>
            <a:off x="325440" y="3979800"/>
            <a:ext cx="4098960" cy="23986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 flipH="1">
            <a:off x="2842920" y="2781360"/>
            <a:ext cx="1655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27640" y="515772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 historical versioning, update times, and com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80200" y="351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2421000"/>
            <a:ext cx="2844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heck-in 1 to n repo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 Check-Out so none of the modifications that were made take eff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comments area for changes made, bug fixes, history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ware Change Manag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/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All reports processing through the AT&amp;T’s SCM tool follow a strict version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Migrations and Check-Ins follow the AT&amp;T Stand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. QC . Development 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0.0.1 – Initia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0.0.2 – First Check by Devel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0.1.2 – First migration to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0.1.3 – QC defect :: Develop fixed check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0.2.3 – Second migration to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1.2.3 – Product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migration to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igrations to Q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eveloper changes on initial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0320" y="603360"/>
            <a:ext cx="41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sion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ernal User Manag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1284120"/>
            <a:ext cx="8763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Use SAP functionality to administer roles and users for access to SAP Enterprise Portal and multiple back-end SAP R/3 transactional and BW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Integrate Business Objects with SAP EP and provide reports from multiple systems seamlessly to cl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Utilize the SAP SSO ticket for access to B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Alias the BOE SAP back-end user accounts with the BOE EP accounts for running 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ernal User Manag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/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620640"/>
          <a:ext cx="419256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419256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356000" y="765000"/>
            <a:ext cx="460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&amp;T SAP systems (Enterprise Portal, BW, Human Resources, Supply Chain Manag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27640" y="2060640"/>
            <a:ext cx="4537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&amp;T back-end process scheduled by BOE to pull any new roles from any known SAP Entitlement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&amp;T back-end process scheduled by BOE to add in any new users into the BOE enviro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27640" y="4149720"/>
            <a:ext cx="4537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&amp;T back-end process scheduled by BOE to alias us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d all users in an Enterprise Portal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each user; find same userID suff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user as alias to EP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P~600\AG63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RP~600\AG6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WP~810\AG6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ernal User Manag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/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3649" r="52332" b="18057"/>
          <a:stretch/>
        </p:blipFill>
        <p:spPr>
          <a:xfrm>
            <a:off x="0" y="692280"/>
            <a:ext cx="4303800" cy="5832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427640" y="1052640"/>
            <a:ext cx="4537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RP~600\Z:BOE_ROLE assigned to Folder Payroll / Benefits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WP~810\Z:BOE_ROLE assigned to Ad Hoc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P~600\Z:EP_BOE_USER assigned to nothing in B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2781360"/>
            <a:ext cx="4537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RP~600\AGENTRY user assigned to Z:BOE_ROLE in SAP HRP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WP~810\AGENTRY user assigned to Z:BOE_ROLE in SAP BWP 8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4148280"/>
            <a:ext cx="453708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X~600\AGENTRY logs on and sees nothing, but when the HRP~600\AGENTRY and BWP~810\AGENTRY user accounts are aliased, AGENTRY will be able to see both HRP~600\BOE_ROLE and BWP~810\BOE_ROLE information as well as run reports against each of the data sources using S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720" y="2089080"/>
            <a:ext cx="932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BWP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560" y="3024360"/>
            <a:ext cx="90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HRP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22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7083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3580"/>
                </a:solidFill>
                <a:latin typeface="Arial"/>
              </a:rPr>
              <a:t>Questions</a:t>
            </a:r>
            <a:endParaRPr b="1" lang="en-US" sz="2000" spc="-1" strike="noStrike">
              <a:solidFill>
                <a:srgbClr val="0c358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 Gentry, Senior Technical Architect, AT&amp;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repeat questions to ensure everyone can h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3580"/>
                </a:solidFill>
                <a:latin typeface="Arial"/>
              </a:rPr>
              <a:t>Contact information</a:t>
            </a:r>
            <a:endParaRPr b="1" lang="en-US" sz="2000" spc="-1" strike="noStrike">
              <a:solidFill>
                <a:srgbClr val="0c358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1800" spc="-1" strike="noStrike" u="sng">
                <a:solidFill>
                  <a:srgbClr val="008896"/>
                </a:solidFill>
                <a:uFillTx/>
                <a:latin typeface="Arial"/>
                <a:hlinkClick r:id="rId3"/>
              </a:rPr>
              <a:t>adam.gentry@at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916360" y="4076640"/>
          <a:ext cx="3579840" cy="171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4076640"/>
                    <a:ext cx="357984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My Background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AT&amp;T’s Business Objects Enterprise Environment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Administration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Administration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: Roles and Object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Integration of Custom Applications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Software Change Management (SCM) :: Migrating Objects between environments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External User Management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Q&amp;A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p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2280" y="764640"/>
            <a:ext cx="8763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80"/>
                </a:solidFill>
                <a:latin typeface="Arial"/>
              </a:rPr>
              <a:t>Joined AT&amp;T (then SBC) in 2001 after receiving a BS degree in Computer Science from the California State University </a:t>
            </a:r>
            <a:r>
              <a:rPr b="0" lang="en-US" sz="1600" spc="-1" strike="noStrike">
                <a:solidFill>
                  <a:srgbClr val="0c358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c3580"/>
                </a:solidFill>
                <a:latin typeface="Arial"/>
              </a:rPr>
              <a:t> Hayward. </a:t>
            </a:r>
            <a:endParaRPr b="1" lang="en-US" sz="18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80"/>
                </a:solidFill>
                <a:latin typeface="Arial"/>
              </a:rPr>
              <a:t>First served as a Seagate Info 7.0 Administrator and Crystal Reports developer providing integration with and reports for an SAP HR system. </a:t>
            </a:r>
            <a:endParaRPr b="1" lang="en-US" sz="18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80"/>
                </a:solidFill>
                <a:latin typeface="Arial"/>
              </a:rPr>
              <a:t>Key member of the team that migrated from Seagate Info 7.0 to 7.5 and then again from Seagate Info 7.5 to Crystal Enterprise 8.5. </a:t>
            </a:r>
            <a:endParaRPr b="1" lang="en-US" sz="18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80"/>
                </a:solidFill>
                <a:latin typeface="Arial"/>
              </a:rPr>
              <a:t>Became the Crystal Enterprise product lead at AT&amp;T, managing multiple environments comprised of a total of 21 servers, more than 60,000 reports and instance, 10,000 users, providing 24 x 7 support and maintaining a 99.99% up time with a team of only 4. </a:t>
            </a:r>
            <a:endParaRPr b="1" lang="en-US" sz="18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80"/>
                </a:solidFill>
                <a:latin typeface="Arial"/>
              </a:rPr>
              <a:t>The support of such a large system with such a small team was made possible by the many mechanization and integration utilities built using the CE SDK and RDC. </a:t>
            </a:r>
            <a:endParaRPr b="1" lang="en-US" sz="18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80"/>
                </a:solidFill>
                <a:latin typeface="Arial"/>
              </a:rPr>
              <a:t>In 2004 planned and led the effort to upgrade all environments to Crystal Enterprise 10 in which AT&amp;T was an early adopter. </a:t>
            </a:r>
            <a:endParaRPr b="1" lang="en-US" sz="18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80"/>
                </a:solidFill>
                <a:latin typeface="Arial"/>
              </a:rPr>
              <a:t>Now completing the latest upgrade to Business Objects XI R2 and expanding the system to support the entire AT&amp;T population which exceeds 175,000 users and includes SAP Enterprise Portal integration and SSO. </a:t>
            </a:r>
            <a:endParaRPr b="1" lang="en-US" sz="18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80"/>
                </a:solidFill>
                <a:latin typeface="Arial"/>
              </a:rPr>
              <a:t>Expertise includes: Crystal Reports, Crystal Enterprise/BOE, Crystal Reports SDK, Enterprise SDK, and administration of a large multi-server environment.</a:t>
            </a:r>
            <a:r>
              <a:rPr b="1" lang="en-US" sz="1800" spc="-1" strike="noStrike">
                <a:solidFill>
                  <a:srgbClr val="0c358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80"/>
                </a:solidFill>
                <a:latin typeface="Arial"/>
              </a:rPr>
              <a:t>Member of the Bay Area Business Objects Crystal User Groups (BABOCUG)</a:t>
            </a:r>
            <a:endParaRPr b="1" lang="en-US" sz="18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3580"/>
                </a:solidFill>
                <a:latin typeface="Arial"/>
              </a:rPr>
              <a:t>Third major conference attendee and second time speaker.</a:t>
            </a:r>
            <a:endParaRPr b="1" lang="en-US" sz="18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Backgrou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Environment Statistics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: 7,0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ces: 150,0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: 32,000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s: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System Statistics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Dual Xenon 2.8 G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gig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2003 with IIS 6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S: 420 gig 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24 x 7 Uptime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Maintained by 4 Administrators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&amp;T Business Objects Enterprise Landsca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&amp;T Business Objects Enterprise Landsca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95520" y="3668760"/>
            <a:ext cx="671400" cy="99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47800" y="3897360"/>
            <a:ext cx="671400" cy="99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86080" y="3668760"/>
            <a:ext cx="671760" cy="99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338720" y="3821040"/>
            <a:ext cx="671400" cy="99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414680" y="3973680"/>
            <a:ext cx="671760" cy="990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567320" y="4125960"/>
            <a:ext cx="671400" cy="99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4719600" y="4278240"/>
            <a:ext cx="671400" cy="99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6853320" y="3668760"/>
            <a:ext cx="671400" cy="990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35280" y="2319480"/>
            <a:ext cx="1777320" cy="733320"/>
          </a:xfrm>
          <a:prstGeom prst="rect">
            <a:avLst/>
          </a:prstGeom>
          <a:solidFill>
            <a:srgbClr val="f5f5e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MS (2/Mach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vent Server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IIS Web Ser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4760" y="2565360"/>
            <a:ext cx="1554840" cy="520200"/>
          </a:xfrm>
          <a:prstGeom prst="rect">
            <a:avLst/>
          </a:prstGeom>
          <a:solidFill>
            <a:srgbClr val="f5f5e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utput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36640" y="3127320"/>
            <a:ext cx="168480" cy="465120"/>
          </a:xfrm>
          <a:prstGeom prst="upArrow">
            <a:avLst>
              <a:gd name="adj1" fmla="val 50000"/>
              <a:gd name="adj2" fmla="val 69017"/>
            </a:avLst>
          </a:prstGeom>
          <a:solidFill>
            <a:srgbClr val="0c35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2760" y="3198960"/>
            <a:ext cx="200160" cy="393480"/>
          </a:xfrm>
          <a:prstGeom prst="upArrow">
            <a:avLst>
              <a:gd name="adj1" fmla="val 50000"/>
              <a:gd name="adj2" fmla="val 49146"/>
            </a:avLst>
          </a:prstGeom>
          <a:solidFill>
            <a:srgbClr val="0c35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18200" y="3198960"/>
            <a:ext cx="144720" cy="393480"/>
          </a:xfrm>
          <a:prstGeom prst="upArrow">
            <a:avLst>
              <a:gd name="adj1" fmla="val 50000"/>
              <a:gd name="adj2" fmla="val 67973"/>
            </a:avLst>
          </a:prstGeom>
          <a:solidFill>
            <a:srgbClr val="0c35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1900080" y="4049640"/>
            <a:ext cx="671760" cy="990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2052720" y="4202280"/>
            <a:ext cx="671400" cy="990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12080" y="1965240"/>
            <a:ext cx="2016720" cy="1159560"/>
          </a:xfrm>
          <a:prstGeom prst="rect">
            <a:avLst/>
          </a:prstGeom>
          <a:solidFill>
            <a:srgbClr val="f5f5e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port Job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gram Job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ger Serve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c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4857840" y="4460760"/>
            <a:ext cx="666720" cy="98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0320" y="603360"/>
            <a:ext cx="41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883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Provides a high-level overview of the system state and utilities.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Utilities and Web Applications area for accessing AT&amp;T custom built administration tools.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Settings area for modifying environment specific Utilities and Web Applications information.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Links to all CMC and InfoView environments with SSO.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Dynamic additions of content.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Custom security mappings for roles and folder assignments.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3580"/>
                </a:solidFill>
                <a:latin typeface="Arial"/>
              </a:rPr>
              <a:t>Performs any administrative gap unable to be executed in the CMC.</a:t>
            </a:r>
            <a:endParaRPr b="1" lang="en-US" sz="2400" spc="-1" strike="noStrike">
              <a:solidFill>
                <a:srgbClr val="0c35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&amp;T Administration Port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&amp;T Administration Por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/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9602" r="2021" b="11292"/>
          <a:stretch/>
        </p:blipFill>
        <p:spPr>
          <a:xfrm>
            <a:off x="0" y="1052640"/>
            <a:ext cx="7443720" cy="54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576440"/>
            <a:ext cx="287280" cy="216000"/>
          </a:xfrm>
          <a:prstGeom prst="ellipse">
            <a:avLst/>
          </a:prstGeom>
          <a:noFill/>
          <a:ln w="15840">
            <a:solidFill>
              <a:srgbClr val="e30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1936800"/>
            <a:ext cx="2622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or managing all AT&amp;T Custom built utilities and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576440"/>
            <a:ext cx="720720" cy="216000"/>
          </a:xfrm>
          <a:prstGeom prst="ellipse">
            <a:avLst/>
          </a:prstGeom>
          <a:noFill/>
          <a:ln w="15840">
            <a:solidFill>
              <a:srgbClr val="e30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2982960"/>
            <a:ext cx="29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or accessing all AT&amp;T custom build web applications and web t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3952800"/>
            <a:ext cx="29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or setting all environment specific elements for use by the customized web applications and ut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1576440"/>
            <a:ext cx="431640" cy="216000"/>
          </a:xfrm>
          <a:prstGeom prst="ellipse">
            <a:avLst/>
          </a:prstGeom>
          <a:noFill/>
          <a:ln w="15840">
            <a:solidFill>
              <a:srgbClr val="e30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5668" t="20747" r="7613" b="6576"/>
          <a:stretch/>
        </p:blipFill>
        <p:spPr>
          <a:xfrm>
            <a:off x="324000" y="3232080"/>
            <a:ext cx="3309840" cy="20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 flipH="1" flipV="1">
            <a:off x="2195280" y="3952800"/>
            <a:ext cx="1584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0320" y="603360"/>
            <a:ext cx="41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140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&amp;T Administration Port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/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0320" y="603360"/>
            <a:ext cx="41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3386" r="1618" b="36828"/>
          <a:stretch/>
        </p:blipFill>
        <p:spPr>
          <a:xfrm>
            <a:off x="0" y="1052640"/>
            <a:ext cx="8820000" cy="4952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00" y="1628640"/>
            <a:ext cx="502920" cy="287640"/>
          </a:xfrm>
          <a:prstGeom prst="ellipse">
            <a:avLst/>
          </a:prstGeom>
          <a:noFill/>
          <a:ln w="15840">
            <a:solidFill>
              <a:srgbClr val="e30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1989000"/>
            <a:ext cx="21826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up and maintain specific customize utility application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log files for processing information including both Successful and Failed ru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scheduling, event, report information for the utility or back-end to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28Z</dcterms:created>
  <dc:creator>Giles</dc:creator>
  <dc:description/>
  <dc:language>en-US</dc:language>
  <cp:lastModifiedBy>Licensed User</cp:lastModifiedBy>
  <cp:lastPrinted>2003-10-03T21:55:07Z</cp:lastPrinted>
  <dcterms:modified xsi:type="dcterms:W3CDTF">2006-09-21T23:03:01Z</dcterms:modified>
  <cp:revision>7</cp:revision>
  <dc:subject/>
  <dc:title>Presentation Title</dc:title>
</cp:coreProperties>
</file>